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C3C-C627-4EC9-AD07-A6BEE352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FB3-B668-4E55-BBDF-43FE9ECB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CD1-633B-426E-AF7A-B3F935CB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445-B352-46F6-920E-9D1C24B5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1AF-B1AE-4B24-8A5A-2C4CC81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64E-4B4A-4897-9EBF-D9AD989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467-6B02-4CD6-87E1-FC1B770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7DD-1026-46DB-98DD-D3FA340D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82F-822D-4EA7-9A42-F8534EAD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832-3B0E-4D60-8C59-01AA4DB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046-D74E-4B57-87D2-4EDBC04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ECD-49B9-4574-BB54-6E18971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ocionek – Klebsch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9A738D61-FF1B-46BF-947C-70BC44CD0A75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, Karsten Rudol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tatus „PLM Excellenc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U2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From Proto-Agile to Full Ag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EE3-1270-4374-88BE-CDCF660F7A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559400" y="2257560"/>
            <a:ext cx="4262400" cy="40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nsition backlog reviewd, prioritization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contract, team and schedule and with Object Mentors agr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:: first 4 Scrum teams in WRO finished their sprint with excellent results (high motivation, good achievements, positive experience and results with TDD by Unit test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poxi: first Scrum teams started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transition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and implement Scrum based requirement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detailed training schedule and content with 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etup Scrum teams in MCH and increase number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E02-9716-4060-A873-1789985B05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460600"/>
            <a:ext cx="417852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U2 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dicated U2 project control room established in MCH (E3.Rotunde 2nd flo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356-315F-436A-9E78-F78BDEF3F81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arsten Rudolph</cp:lastModifiedBy>
  <dcterms:modified xsi:type="dcterms:W3CDTF">2006-03-20T11:27:14Z</dcterms:modified>
  <cp:revision>348</cp:revision>
  <dc:subject/>
  <dc:title>PowerPoint 簡報</dc:title>
</cp:coreProperties>
</file>